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6E70-A7CA-4E3E-A4F9-042E50AB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0FF3-5A0E-4BB4-B406-664DE7A3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2C2C1-0188-4496-A3D0-B9A85E6C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AB2AA-7B11-4BB1-9D53-F1B14A02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06340-8115-4C14-A335-26F7891A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4260A-810C-4992-9FEE-64267C7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4700A-0F45-4A3F-9130-053A0F9D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54DE9-17B1-4B45-9B64-A3FBD516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5BB4D-98D8-46B2-A22F-82904119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2869F-7B83-473C-AA7C-9F288054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67140-C1BD-4B46-926A-E1481749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F2BD0-7AEE-4516-8EB1-807B19EC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789D-C47E-4472-A02B-3B9E4ECF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462E4-9631-46A4-95C4-C3BC000B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E6816-318B-42DB-8BBC-2472EC11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C458C-73C6-4098-A046-3AAF5282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A22FA-829B-4EB2-A673-B802CE0E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A1C08-C4D6-431B-AD3C-738E79CE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E15D2-B3C2-43E9-A1BE-7DF5536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07655-1BF7-4118-9EEC-C517B52D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79877-8F53-43AE-BB7F-0DCA8407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338F7-4186-4D4B-B431-DC573CB2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FA3CC-8E65-4095-BF0C-7C419E4A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1588-C8BA-4E68-8CE8-7C4A2546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E28FD-A571-4B51-8C10-3D9019AC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145D-5ACD-4B45-A030-482E6C0F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6714-556A-44BA-A9A2-3A6FD438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BE8C-4856-4B75-9596-DD953043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F4E2-AE42-4CDD-A2B5-70872171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93A6-A43E-47ED-8E98-F0A62ED5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953F-DEF8-4AFF-8F17-2133F441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6EF0-B661-4DA3-81CC-C53B987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58D6-7E56-4FD5-BC05-CF0FA213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27CD-A181-4B53-B5F0-D706E603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A3B9-3970-4BDE-9769-468EBC3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BD3E-5891-4365-9B9E-D3851D78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104C-01F7-4C67-844D-0DC1C098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7406-6EB9-4397-B29A-1782453C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F43B-CAB8-4DCE-A1CD-846DB49F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9909-7695-4C80-9010-248FC93C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B2121-A2C8-4821-9CB9-3940241A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511F-D6C1-4E29-A2E4-2FCDCE2A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99CA-B29D-460D-AD7D-C3E4F9E8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F8A4-C6FF-4BE8-A099-80905ED1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5DB2-E55D-4D03-B63D-327A6A6C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B1D4-3B17-463D-83C1-50BD76BE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97F2-405E-41F6-B8B3-170AC4E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FC6D-885B-4847-AF9C-9516A54D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31C9-11AB-422C-B240-A2B141A7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47A9B-CC2B-4CB2-8955-112FBFC8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21C7-626B-4333-91AD-917860E6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CFC76-5800-40F7-8C04-4146DF0F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FAF9-413D-4E3B-ADA3-4912C87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24FB9-E6F5-4BEA-86BE-456FB90E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3E7D-EE60-4F16-BAB5-65C122A1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E41F8-2B20-47B7-8C5F-0F850C8F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348D-CCF4-4C8C-91D7-EAA60D49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20EB-FA5F-4FBB-A712-26DB1C65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E0BB-0DEC-4A1F-B7A0-DB04FAE1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7B2C-3C2A-48B3-A135-F7E55FC9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424B-00E6-47BF-8115-4867314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2B2BC-338A-4713-B835-643FFFF5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6DD8-80C4-4F3F-9104-0B03FF7D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A7FE-1AF0-4AE3-AF99-306935D0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B60D2-A6B5-4F4C-B49C-8783AC70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DDAA-BC32-42BD-98F0-DBF9A896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E404-06A6-4BFE-8571-C7147C11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1D60F-4876-4314-9B05-E62BAE9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BE775-7E09-453D-B10A-8568E004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E3CD6-2632-4F66-866D-0CB01AD1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9490-EC60-497A-9B9E-E7D63BEA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E6E01-C743-4DF7-B312-99313FB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474A4-0F60-4734-9C3C-7F0E191A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E6270-95FD-4823-972D-82378122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B388-E493-4006-B9A0-E8D9197D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B481-9974-4B8A-9A09-A4CA3812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6C4C-0904-4E60-B2D7-DDEFCA7A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9C92-27C8-4FF1-8726-E57C9679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DA09-6F2D-4E9A-B873-A354C8B4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C348A-8F92-4A30-B537-275E8A0F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85CF0-7924-467C-BBE2-1D386216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7B59C-3775-4430-B820-E0736B8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AC123-12B4-4E44-9CD4-0C133112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C1C38-63F2-4102-9D94-989D3D36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85893-D57D-45F0-910B-F141EB57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CC844-71F6-455C-B7A1-5A018DD0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163A-61E5-47D2-A186-2A83963A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0D76-1687-48F8-8A41-5915245F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EA356-5F8B-4CAB-9B7C-1EDDA997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A813A-A97C-4152-A474-2C9D7348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F8898-F286-4DA5-B27C-6AC60855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97BDD-9264-4702-9FC5-33162D44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DC7B7-4EF1-4FE1-9362-122C447F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94CCC-C57D-4BDF-A801-3DC1C84C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F442F-C040-4ACE-976F-31DD66B6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09011-4475-4E8D-8A1F-687B28D7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5A22-BA03-49C4-9947-B961C4EB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A2B89-CA54-4906-9561-6E0DBDFF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53D0-3ADF-4F08-96EA-05904E0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58C4F-9EB7-4A41-BCEB-1326DA02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F517D-39AC-40D5-91F4-A8F899D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9D26E-E08B-4E08-980C-F7C3BD03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47246-63F1-4568-A0E3-14E3E276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039FF-CAB4-4B30-AE14-4575D8E3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4AAAD-9538-4842-A522-7D47D10D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E4C41E-3CF6-44DD-A9D0-821AB4E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7BC4E-D984-4A51-BF27-5F76AA7B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B1991A-DD3A-4FA0-B884-BAF5CAC1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E94F13-B683-449F-9298-9BE7DB13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7D39-C887-408F-A54C-6DD98A9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03BABE-442F-4846-ABC2-61486300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2170A3-864E-48B7-B689-BB87D83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1BA844-668C-4CD2-BA66-89199FD0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C9801D-7770-4C8D-A4FF-45BE806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3A9108-2894-4FE8-8971-586E129C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360A84-DACE-4963-8FE6-3D510769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F0BB9-164F-43FB-B1B8-A9E531CC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738AC-B87C-4C9B-A1FD-16E73B28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63DFF-F53B-4629-BC35-7526833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3C063-A59F-4A9F-915E-CC15FB50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C7D5-B9E5-4463-9607-8D6936FA63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4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8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53D-76F5-486D-9691-B3CF0A9C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1d4576"/>
                </a:gs>
                <a:gs pos="100000">
                  <a:srgbClr val="1f49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1f49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2408-2B43-4277-926B-43165295E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1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34D9-5777-45C6-ACE5-28099D8947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7FDB-F350-490A-B167-D8A8FA99C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2204-0317-47F8-9558-5D2DCF11D0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1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1f49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D2B8-9CB9-4E73-84A5-C6B1983C8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1d4576"/>
                </a:gs>
                <a:gs pos="100000">
                  <a:srgbClr val="1f49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1f49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8B10-0D76-4993-8D10-6B906E0CA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0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0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6AF-1F01-46C4-892D-390174249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6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9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3F29-CBFC-4E82-8BEA-489BDD7A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8.pn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6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7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WordArt 2"/>
          <p:cNvSpPr txBox="1"/>
          <p:nvPr/>
        </p:nvSpPr>
        <p:spPr>
          <a:xfrm>
            <a:off x="1187280" y="3213000"/>
            <a:ext cx="684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4" name="WordArt 3"/>
          <p:cNvSpPr txBox="1"/>
          <p:nvPr/>
        </p:nvSpPr>
        <p:spPr>
          <a:xfrm>
            <a:off x="539640" y="909720"/>
            <a:ext cx="806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25" name="Picture 4" descr="116"/>
          <p:cNvPicPr/>
          <p:nvPr/>
        </p:nvPicPr>
        <p:blipFill>
          <a:blip r:embed="rId1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116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116"/>
          <p:cNvPicPr/>
          <p:nvPr/>
        </p:nvPicPr>
        <p:blipFill>
          <a:blip r:embed="rId3"/>
          <a:stretch/>
        </p:blipFill>
        <p:spPr>
          <a:xfrm>
            <a:off x="8986680" y="304920"/>
            <a:ext cx="157320" cy="6324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116"/>
          <p:cNvPicPr/>
          <p:nvPr/>
        </p:nvPicPr>
        <p:blipFill>
          <a:blip r:embed="rId4"/>
          <a:stretch/>
        </p:blipFill>
        <p:spPr>
          <a:xfrm>
            <a:off x="0" y="260280"/>
            <a:ext cx="157320" cy="63248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116"/>
          <p:cNvPicPr/>
          <p:nvPr/>
        </p:nvPicPr>
        <p:blipFill>
          <a:blip r:embed="rId5"/>
          <a:stretch/>
        </p:blipFill>
        <p:spPr>
          <a:xfrm>
            <a:off x="12600" y="237960"/>
            <a:ext cx="768600" cy="7686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9" descr="116"/>
          <p:cNvPicPr/>
          <p:nvPr/>
        </p:nvPicPr>
        <p:blipFill>
          <a:blip r:embed="rId6"/>
          <a:stretch/>
        </p:blipFill>
        <p:spPr>
          <a:xfrm>
            <a:off x="8850240" y="1165320"/>
            <a:ext cx="114480" cy="45687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0" descr="116"/>
          <p:cNvPicPr/>
          <p:nvPr/>
        </p:nvPicPr>
        <p:blipFill>
          <a:blip r:embed="rId7"/>
          <a:stretch/>
        </p:blipFill>
        <p:spPr>
          <a:xfrm>
            <a:off x="108000" y="1165320"/>
            <a:ext cx="114120" cy="45687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1" descr="116"/>
          <p:cNvPicPr/>
          <p:nvPr/>
        </p:nvPicPr>
        <p:blipFill>
          <a:blip r:embed="rId8"/>
          <a:stretch/>
        </p:blipFill>
        <p:spPr>
          <a:xfrm>
            <a:off x="49320" y="59072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2" descr="116"/>
          <p:cNvPicPr/>
          <p:nvPr/>
        </p:nvPicPr>
        <p:blipFill>
          <a:blip r:embed="rId9"/>
          <a:stretch/>
        </p:blipFill>
        <p:spPr>
          <a:xfrm>
            <a:off x="8332920" y="5834160"/>
            <a:ext cx="768240" cy="7617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3" descr="116"/>
          <p:cNvPicPr/>
          <p:nvPr/>
        </p:nvPicPr>
        <p:blipFill>
          <a:blip r:embed="rId10"/>
          <a:stretch/>
        </p:blipFill>
        <p:spPr>
          <a:xfrm>
            <a:off x="8362800" y="237960"/>
            <a:ext cx="768600" cy="7686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4"/>
          <p:cNvSpPr/>
          <p:nvPr/>
        </p:nvSpPr>
        <p:spPr>
          <a:xfrm>
            <a:off x="383220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6" name="Прямоугольник 15" descr=""/>
          <p:cNvPicPr/>
          <p:nvPr/>
        </p:nvPicPr>
        <p:blipFill>
          <a:blip r:embed="rId11"/>
          <a:stretch/>
        </p:blipFill>
        <p:spPr>
          <a:xfrm>
            <a:off x="1116000" y="3213000"/>
            <a:ext cx="6742080" cy="24638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1692360" y="270828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6600cc"/>
                </a:solidFill>
                <a:latin typeface="Times New Roman"/>
              </a:rPr>
              <a:t>Тақырып №</a:t>
            </a:r>
            <a:r>
              <a:rPr b="0" i="1" lang="ru-RU" sz="4000" spc="-1" strike="noStrike">
                <a:solidFill>
                  <a:srgbClr val="6600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  <p:sndAc>
      <p:stSnd>
        <p:snd r:embed="rId1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500040" y="57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kk-KZ" sz="4000" spc="-1" strike="noStrike">
                <a:solidFill>
                  <a:srgbClr val="fc2c3b"/>
                </a:solidFill>
                <a:latin typeface="Times New Roman"/>
                <a:ea typeface="Times New Roman"/>
              </a:rPr>
              <a:t>Дүниежүзілік банк 2 үлкен топқа бөліне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AutoShape 7"/>
          <p:cNvSpPr/>
          <p:nvPr/>
        </p:nvSpPr>
        <p:spPr>
          <a:xfrm>
            <a:off x="5357880" y="2571840"/>
            <a:ext cx="3484440" cy="295092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2.Халықаралық да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ссоциация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AutoShape 6"/>
          <p:cNvSpPr/>
          <p:nvPr/>
        </p:nvSpPr>
        <p:spPr>
          <a:xfrm>
            <a:off x="684360" y="3213000"/>
            <a:ext cx="3671640" cy="302436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1.Халықаралық қай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р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әне даму банк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8" name="Picture 6" descr="AG00046_"/>
          <p:cNvPicPr/>
          <p:nvPr/>
        </p:nvPicPr>
        <p:blipFill>
          <a:blip r:embed="rId1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" descr="AG00046_"/>
          <p:cNvPicPr/>
          <p:nvPr/>
        </p:nvPicPr>
        <p:blipFill>
          <a:blip r:embed="rId2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AG00046_"/>
          <p:cNvPicPr/>
          <p:nvPr/>
        </p:nvPicPr>
        <p:blipFill>
          <a:blip r:embed="rId3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5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Oval 19"/>
          <p:cNvSpPr/>
          <p:nvPr/>
        </p:nvSpPr>
        <p:spPr>
          <a:xfrm>
            <a:off x="179280" y="2276640"/>
            <a:ext cx="3311640" cy="1944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466560" y="2637000"/>
            <a:ext cx="27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ahoma"/>
              </a:rPr>
              <a:t>ХҚДБ қарыздарын (ссуда) беру шартта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Rectangle 22"/>
          <p:cNvSpPr/>
          <p:nvPr/>
        </p:nvSpPr>
        <p:spPr>
          <a:xfrm>
            <a:off x="4429080" y="714240"/>
            <a:ext cx="424836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ffffff"/>
                </a:solidFill>
                <a:latin typeface="Tahoma"/>
              </a:rPr>
              <a:t>Несие тек қана үкіметтерге, олардың орталық банктері экономикалық даму үшін жасаған жобаларды қаржыландыр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Rectangle 24"/>
          <p:cNvSpPr/>
          <p:nvPr/>
        </p:nvSpPr>
        <p:spPr>
          <a:xfrm>
            <a:off x="4427640" y="3500280"/>
            <a:ext cx="424800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ffffff"/>
                </a:solidFill>
                <a:latin typeface="Tahoma"/>
              </a:rPr>
              <a:t>ХҚДБ-нің сарапшы комиссиясы ұсынған жобаға баға беріп оны қолдау ға рұқсат берген жағдай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Text Box 25"/>
          <p:cNvSpPr/>
          <p:nvPr/>
        </p:nvSpPr>
        <p:spPr>
          <a:xfrm>
            <a:off x="4427640" y="4653000"/>
            <a:ext cx="4248000" cy="1067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ffffff"/>
                </a:solidFill>
                <a:latin typeface="Tahoma"/>
              </a:rPr>
              <a:t>Қаражатты пайдалану қатаң мақсатты  көздейді және қаржы тек қана жобаны іске асыруына қарай кезең-кезеңмен беріледі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4427640" y="1987560"/>
            <a:ext cx="4248000" cy="580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ffffff"/>
                </a:solidFill>
                <a:latin typeface="Tahoma"/>
              </a:rPr>
              <a:t>Несие алушы өзіне қолайлы шарттармен басқа жерден несие алуға мүмкіндігі б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Line 27"/>
          <p:cNvSpPr/>
          <p:nvPr/>
        </p:nvSpPr>
        <p:spPr>
          <a:xfrm>
            <a:off x="3490920" y="3213000"/>
            <a:ext cx="936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Line 28"/>
          <p:cNvSpPr/>
          <p:nvPr/>
        </p:nvSpPr>
        <p:spPr>
          <a:xfrm flipV="1">
            <a:off x="3490920" y="1339560"/>
            <a:ext cx="93672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Line 29"/>
          <p:cNvSpPr/>
          <p:nvPr/>
        </p:nvSpPr>
        <p:spPr>
          <a:xfrm flipV="1">
            <a:off x="3490920" y="2276280"/>
            <a:ext cx="9367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Line 30"/>
          <p:cNvSpPr/>
          <p:nvPr/>
        </p:nvSpPr>
        <p:spPr>
          <a:xfrm>
            <a:off x="3490920" y="3213000"/>
            <a:ext cx="93672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2" name="Picture 6" descr="AG00046_"/>
          <p:cNvPicPr/>
          <p:nvPr/>
        </p:nvPicPr>
        <p:blipFill>
          <a:blip r:embed="rId1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" descr="AG00046_"/>
          <p:cNvPicPr/>
          <p:nvPr/>
        </p:nvPicPr>
        <p:blipFill>
          <a:blip r:embed="rId2"/>
          <a:stretch/>
        </p:blipFill>
        <p:spPr>
          <a:xfrm rot="10800000">
            <a:off x="1425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AG00046_"/>
          <p:cNvPicPr/>
          <p:nvPr/>
        </p:nvPicPr>
        <p:blipFill>
          <a:blip r:embed="rId3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5671080" y="335016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Прямоугольник 20" descr=""/>
          <p:cNvPicPr/>
          <p:nvPr/>
        </p:nvPicPr>
        <p:blipFill>
          <a:blip r:embed="rId1"/>
          <a:stretch/>
        </p:blipFill>
        <p:spPr>
          <a:xfrm>
            <a:off x="633240" y="596880"/>
            <a:ext cx="7589880" cy="335268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оугольник 21"/>
          <p:cNvSpPr/>
          <p:nvPr/>
        </p:nvSpPr>
        <p:spPr>
          <a:xfrm>
            <a:off x="642960" y="19288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8" name="Picture 6" descr="AG00046_"/>
          <p:cNvPicPr/>
          <p:nvPr/>
        </p:nvPicPr>
        <p:blipFill>
          <a:blip r:embed="rId2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" descr="AG00046_"/>
          <p:cNvPicPr/>
          <p:nvPr/>
        </p:nvPicPr>
        <p:blipFill>
          <a:blip r:embed="rId3"/>
          <a:stretch/>
        </p:blipFill>
        <p:spPr>
          <a:xfrm rot="10800000">
            <a:off x="1425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AG00046_"/>
          <p:cNvPicPr/>
          <p:nvPr/>
        </p:nvPicPr>
        <p:blipFill>
          <a:blip r:embed="rId5"/>
          <a:stretch/>
        </p:blipFill>
        <p:spPr>
          <a:xfrm flipH="1" rot="16200000">
            <a:off x="5671080" y="335016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6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8"/>
          <p:cNvSpPr/>
          <p:nvPr/>
        </p:nvSpPr>
        <p:spPr>
          <a:xfrm>
            <a:off x="395280" y="1413000"/>
            <a:ext cx="374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1571760" y="1857240"/>
            <a:ext cx="2806560" cy="2109960"/>
          </a:xfrm>
          <a:custGeom>
            <a:avLst/>
            <a:gdLst>
              <a:gd name="textAreaLeft" fmla="*/ 640440 w 2806560"/>
              <a:gd name="textAreaRight" fmla="*/ 2166120 w 2806560"/>
              <a:gd name="textAreaTop" fmla="*/ 481680 h 2109960"/>
              <a:gd name="textAreaBottom" fmla="*/ 1628280 h 2109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00000"/>
                </a:solidFill>
                <a:latin typeface="Tahoma"/>
              </a:rPr>
              <a:t>2.Арнайы ресурс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AutoShape 5"/>
          <p:cNvSpPr/>
          <p:nvPr/>
        </p:nvSpPr>
        <p:spPr>
          <a:xfrm>
            <a:off x="0" y="3643200"/>
            <a:ext cx="2735280" cy="2282760"/>
          </a:xfrm>
          <a:custGeom>
            <a:avLst/>
            <a:gdLst>
              <a:gd name="textAreaLeft" fmla="*/ 624240 w 2735280"/>
              <a:gd name="textAreaRight" fmla="*/ 2111040 w 2735280"/>
              <a:gd name="textAreaTop" fmla="*/ 520920 h 2282760"/>
              <a:gd name="textAreaBottom" fmla="*/ 1761840 h 228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00000"/>
                </a:solidFill>
                <a:latin typeface="Tahoma"/>
              </a:rPr>
              <a:t>1. Жай ресурс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5" name="Прямоугольник 16" descr=""/>
          <p:cNvPicPr/>
          <p:nvPr/>
        </p:nvPicPr>
        <p:blipFill>
          <a:blip r:embed="rId1"/>
          <a:stretch/>
        </p:blipFill>
        <p:spPr>
          <a:xfrm>
            <a:off x="1206360" y="128520"/>
            <a:ext cx="4945320" cy="117000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357440" y="1285560"/>
            <a:ext cx="4786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kk-K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0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й ресурстар </a:t>
            </a:r>
            <a:r>
              <a:rPr b="0" lang="kk-KZ" sz="2400" spc="-1" strike="noStrike">
                <a:solidFill>
                  <a:srgbClr val="0000f1"/>
                </a:solidFill>
                <a:latin typeface="Times New Roman"/>
                <a:ea typeface="Times New Roman"/>
              </a:rPr>
              <a:t>құрамы: шығаруға рұқсат берілген акционерлік капитал; әлемдік капиталдар нарығынан алған заемдық қаражат;заемдық қайтарудан түскен қаражат пен кепілдіктен түскен қаражат және т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0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найы қорға</a:t>
            </a:r>
            <a:r>
              <a:rPr b="0" lang="kk-K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kk-KZ" sz="2400" spc="-1" strike="noStrike">
                <a:solidFill>
                  <a:srgbClr val="0000f1"/>
                </a:solidFill>
                <a:latin typeface="Times New Roman"/>
                <a:ea typeface="Times New Roman"/>
              </a:rPr>
              <a:t>арнайы жіберілген қаражаттар; инвестициялардан алынған табыстар және т.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6" descr="AG00046_"/>
          <p:cNvPicPr/>
          <p:nvPr/>
        </p:nvPicPr>
        <p:blipFill>
          <a:blip r:embed="rId2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AG00046_"/>
          <p:cNvPicPr/>
          <p:nvPr/>
        </p:nvPicPr>
        <p:blipFill>
          <a:blip r:embed="rId3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" descr="AG00046_"/>
          <p:cNvPicPr/>
          <p:nvPr/>
        </p:nvPicPr>
        <p:blipFill>
          <a:blip r:embed="rId4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" descr="AG00046_"/>
          <p:cNvPicPr/>
          <p:nvPr/>
        </p:nvPicPr>
        <p:blipFill>
          <a:blip r:embed="rId5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6" name="chimes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3"/>
          <p:cNvSpPr/>
          <p:nvPr/>
        </p:nvSpPr>
        <p:spPr>
          <a:xfrm rot="2046600">
            <a:off x="2195640" y="1628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WordArt 8"/>
          <p:cNvSpPr txBox="1"/>
          <p:nvPr/>
        </p:nvSpPr>
        <p:spPr>
          <a:xfrm>
            <a:off x="928800" y="285840"/>
            <a:ext cx="7792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Азия даму банкі.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3" name="AutoShape 5"/>
          <p:cNvSpPr/>
          <p:nvPr/>
        </p:nvSpPr>
        <p:spPr>
          <a:xfrm>
            <a:off x="785880" y="1714680"/>
            <a:ext cx="3786120" cy="335736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АзДБ 1965жылы құрылғ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Мүшелері: Азиядағы дамуш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елдер ме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Жапония, Австра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кір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Штаб пәтері-Филипиннің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Астанасы- Манила қалас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4357800" y="2357280"/>
            <a:ext cx="4324320" cy="42148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АзДБ өз операциялары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ЕҚД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сияқты жүзеге асыра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1980жы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 </a:t>
            </a:r>
            <a:r>
              <a:rPr b="0" i="1" lang="kk-KZ" sz="24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негізгі капит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9,5 млрд доллар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 </a:t>
            </a:r>
            <a:r>
              <a:rPr b="0" i="1" lang="kk-KZ" sz="24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құра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5" name="Picture 6" descr="AG00046_"/>
          <p:cNvPicPr/>
          <p:nvPr/>
        </p:nvPicPr>
        <p:blipFill>
          <a:blip r:embed="rId1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AG00046_"/>
          <p:cNvPicPr/>
          <p:nvPr/>
        </p:nvPicPr>
        <p:blipFill>
          <a:blip r:embed="rId2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AG00046_"/>
          <p:cNvPicPr/>
          <p:nvPr/>
        </p:nvPicPr>
        <p:blipFill>
          <a:blip r:embed="rId3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6" descr="AG00046_"/>
          <p:cNvPicPr/>
          <p:nvPr/>
        </p:nvPicPr>
        <p:blipFill>
          <a:blip r:embed="rId4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6" descr="AG00046_"/>
          <p:cNvPicPr/>
          <p:nvPr/>
        </p:nvPicPr>
        <p:blipFill>
          <a:blip r:embed="rId1"/>
          <a:stretch/>
        </p:blipFill>
        <p:spPr>
          <a:xfrm flipH="1" rot="16200000">
            <a:off x="-3268440" y="3268440"/>
            <a:ext cx="6823080" cy="2858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AG00046_"/>
          <p:cNvPicPr/>
          <p:nvPr/>
        </p:nvPicPr>
        <p:blipFill>
          <a:blip r:embed="rId2"/>
          <a:stretch/>
        </p:blipFill>
        <p:spPr>
          <a:xfrm flipH="1" rot="16200000">
            <a:off x="5589360" y="3303360"/>
            <a:ext cx="6823080" cy="285840"/>
          </a:xfrm>
          <a:prstGeom prst="rect">
            <a:avLst/>
          </a:prstGeom>
          <a:ln w="0">
            <a:noFill/>
          </a:ln>
        </p:spPr>
      </p:pic>
      <p:pic>
        <p:nvPicPr>
          <p:cNvPr id="741" name="Прямоугольник 11" descr=""/>
          <p:cNvPicPr/>
          <p:nvPr/>
        </p:nvPicPr>
        <p:blipFill>
          <a:blip r:embed="rId3"/>
          <a:stretch/>
        </p:blipFill>
        <p:spPr>
          <a:xfrm>
            <a:off x="1920960" y="682560"/>
            <a:ext cx="5491080" cy="118908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12"/>
          <p:cNvSpPr/>
          <p:nvPr/>
        </p:nvSpPr>
        <p:spPr>
          <a:xfrm>
            <a:off x="1285920" y="2214720"/>
            <a:ext cx="6357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донезия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ңтүстік Коре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илиппи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киста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kk-KZ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айлан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3" name="Picture 6" descr="AG00046_"/>
          <p:cNvPicPr/>
          <p:nvPr/>
        </p:nvPicPr>
        <p:blipFill>
          <a:blip r:embed="rId4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6" descr="AG00046_"/>
          <p:cNvPicPr/>
          <p:nvPr/>
        </p:nvPicPr>
        <p:blipFill>
          <a:blip r:embed="rId5"/>
          <a:stretch/>
        </p:blipFill>
        <p:spPr>
          <a:xfrm rot="10800000">
            <a:off x="1425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45" name="Прямоугольник 8" descr=""/>
          <p:cNvPicPr/>
          <p:nvPr/>
        </p:nvPicPr>
        <p:blipFill>
          <a:blip r:embed="rId6"/>
          <a:stretch/>
        </p:blipFill>
        <p:spPr>
          <a:xfrm>
            <a:off x="1133640" y="4809960"/>
            <a:ext cx="6730920" cy="1683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AutoShape 4"/>
          <p:cNvSpPr/>
          <p:nvPr/>
        </p:nvSpPr>
        <p:spPr>
          <a:xfrm>
            <a:off x="611280" y="692280"/>
            <a:ext cx="7777080" cy="1368360"/>
          </a:xfrm>
          <a:prstGeom prst="downArrowCallout">
            <a:avLst>
              <a:gd name="adj1" fmla="val -197308"/>
              <a:gd name="adj2" fmla="val 155296"/>
              <a:gd name="adj3" fmla="val 33333"/>
              <a:gd name="adj4" fmla="val 6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Несиені беретін негізгі бағыттар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AutoShape 5"/>
          <p:cNvSpPr/>
          <p:nvPr/>
        </p:nvSpPr>
        <p:spPr>
          <a:xfrm>
            <a:off x="755640" y="2205000"/>
            <a:ext cx="7201080" cy="3888000"/>
          </a:xfrm>
          <a:prstGeom prst="hexagon">
            <a:avLst>
              <a:gd name="adj" fmla="val 30380"/>
              <a:gd name="vf" fmla="val 1154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8" name="Text Box 6" descr=""/>
          <p:cNvPicPr/>
          <p:nvPr/>
        </p:nvPicPr>
        <p:blipFill>
          <a:blip r:embed="rId1"/>
          <a:stretch/>
        </p:blipFill>
        <p:spPr>
          <a:xfrm>
            <a:off x="1847880" y="2523960"/>
            <a:ext cx="4844880" cy="706680"/>
          </a:xfrm>
          <a:prstGeom prst="rect">
            <a:avLst/>
          </a:prstGeom>
          <a:ln w="0">
            <a:noFill/>
          </a:ln>
        </p:spPr>
      </p:pic>
      <p:pic>
        <p:nvPicPr>
          <p:cNvPr id="749" name="Text Box 8" descr=""/>
          <p:cNvPicPr/>
          <p:nvPr/>
        </p:nvPicPr>
        <p:blipFill>
          <a:blip r:embed="rId2"/>
          <a:stretch/>
        </p:blipFill>
        <p:spPr>
          <a:xfrm>
            <a:off x="1560600" y="3524400"/>
            <a:ext cx="5565600" cy="431640"/>
          </a:xfrm>
          <a:prstGeom prst="rect">
            <a:avLst/>
          </a:prstGeom>
          <a:ln w="0">
            <a:noFill/>
          </a:ln>
        </p:spPr>
      </p:pic>
      <p:pic>
        <p:nvPicPr>
          <p:cNvPr id="750" name="Text Box 9" descr=""/>
          <p:cNvPicPr/>
          <p:nvPr/>
        </p:nvPicPr>
        <p:blipFill>
          <a:blip r:embed="rId3"/>
          <a:stretch/>
        </p:blipFill>
        <p:spPr>
          <a:xfrm>
            <a:off x="1200240" y="4243320"/>
            <a:ext cx="6145200" cy="425520"/>
          </a:xfrm>
          <a:prstGeom prst="rect">
            <a:avLst/>
          </a:prstGeom>
          <a:ln w="0">
            <a:noFill/>
          </a:ln>
        </p:spPr>
      </p:pic>
      <p:pic>
        <p:nvPicPr>
          <p:cNvPr id="751" name="Text Box 9" descr=""/>
          <p:cNvPicPr/>
          <p:nvPr/>
        </p:nvPicPr>
        <p:blipFill>
          <a:blip r:embed="rId4"/>
          <a:stretch/>
        </p:blipFill>
        <p:spPr>
          <a:xfrm>
            <a:off x="1579680" y="5095800"/>
            <a:ext cx="5546520" cy="4269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6" descr="AG00046_"/>
          <p:cNvPicPr/>
          <p:nvPr/>
        </p:nvPicPr>
        <p:blipFill>
          <a:blip r:embed="rId5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AG00046_"/>
          <p:cNvPicPr/>
          <p:nvPr/>
        </p:nvPicPr>
        <p:blipFill>
          <a:blip r:embed="rId6"/>
          <a:stretch/>
        </p:blipFill>
        <p:spPr>
          <a:xfrm rot="10800000">
            <a:off x="1425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6" descr="AG00046_"/>
          <p:cNvPicPr/>
          <p:nvPr/>
        </p:nvPicPr>
        <p:blipFill>
          <a:blip r:embed="rId7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AG00046_"/>
          <p:cNvPicPr/>
          <p:nvPr/>
        </p:nvPicPr>
        <p:blipFill>
          <a:blip r:embed="rId8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9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Text Box 4" descr=""/>
          <p:cNvPicPr/>
          <p:nvPr/>
        </p:nvPicPr>
        <p:blipFill>
          <a:blip r:embed="rId1"/>
          <a:stretch/>
        </p:blipFill>
        <p:spPr>
          <a:xfrm>
            <a:off x="658800" y="171360"/>
            <a:ext cx="7839000" cy="53085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AG00046_"/>
          <p:cNvPicPr/>
          <p:nvPr/>
        </p:nvPicPr>
        <p:blipFill>
          <a:blip r:embed="rId2"/>
          <a:stretch/>
        </p:blipFill>
        <p:spPr>
          <a:xfrm rot="10800000">
            <a:off x="1425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6" descr="AG00046_"/>
          <p:cNvPicPr/>
          <p:nvPr/>
        </p:nvPicPr>
        <p:blipFill>
          <a:blip r:embed="rId3"/>
          <a:stretch/>
        </p:blipFill>
        <p:spPr>
          <a:xfrm rot="10800000">
            <a:off x="1425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6" descr="AG00046_"/>
          <p:cNvPicPr/>
          <p:nvPr/>
        </p:nvPicPr>
        <p:blipFill>
          <a:blip r:embed="rId5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6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Oval 19"/>
          <p:cNvSpPr/>
          <p:nvPr/>
        </p:nvSpPr>
        <p:spPr>
          <a:xfrm>
            <a:off x="0" y="1857240"/>
            <a:ext cx="3500280" cy="32148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Rectangle 20"/>
          <p:cNvSpPr/>
          <p:nvPr/>
        </p:nvSpPr>
        <p:spPr>
          <a:xfrm>
            <a:off x="214200" y="242892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Tahoma"/>
              </a:rPr>
              <a:t>Мүше мемлекеттердің банктің  жарғылық капиталындағы үлестер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Rectangle 22"/>
          <p:cNvSpPr/>
          <p:nvPr/>
        </p:nvSpPr>
        <p:spPr>
          <a:xfrm>
            <a:off x="4500720" y="1000080"/>
            <a:ext cx="4357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ауд Аравиясы -16,6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Rectangle 24"/>
          <p:cNvSpPr/>
          <p:nvPr/>
        </p:nvSpPr>
        <p:spPr>
          <a:xfrm>
            <a:off x="4500720" y="3929040"/>
            <a:ext cx="4248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kk-KZ" sz="2400" spc="-1" strike="noStrike">
                <a:solidFill>
                  <a:srgbClr val="ffffff"/>
                </a:solidFill>
                <a:latin typeface="Tahoma"/>
              </a:rPr>
              <a:t>Ливия -6,7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i="1" lang="kk-K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Text Box 25"/>
          <p:cNvSpPr/>
          <p:nvPr/>
        </p:nvSpPr>
        <p:spPr>
          <a:xfrm>
            <a:off x="4427640" y="4653000"/>
            <a:ext cx="424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ffffff"/>
                </a:solidFill>
                <a:latin typeface="Tahoma"/>
              </a:rPr>
              <a:t>Гамбия,Қырғыз,Мозамби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ffffff"/>
                </a:solidFill>
                <a:latin typeface="Tahoma"/>
              </a:rPr>
              <a:t>Қазақстан  және басқа мемлекеттер-0,4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Text Box 26"/>
          <p:cNvSpPr/>
          <p:nvPr/>
        </p:nvSpPr>
        <p:spPr>
          <a:xfrm>
            <a:off x="4500720" y="1785960"/>
            <a:ext cx="4357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ffffff"/>
                </a:solidFill>
                <a:latin typeface="Tahoma"/>
              </a:rPr>
              <a:t>Кувейт- 8,3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Line 27"/>
          <p:cNvSpPr/>
          <p:nvPr/>
        </p:nvSpPr>
        <p:spPr>
          <a:xfrm>
            <a:off x="3490920" y="3213000"/>
            <a:ext cx="1009800" cy="9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Line 28"/>
          <p:cNvSpPr/>
          <p:nvPr/>
        </p:nvSpPr>
        <p:spPr>
          <a:xfrm flipV="1">
            <a:off x="3490920" y="1285560"/>
            <a:ext cx="1009800" cy="19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Line 29"/>
          <p:cNvSpPr/>
          <p:nvPr/>
        </p:nvSpPr>
        <p:spPr>
          <a:xfrm flipV="1">
            <a:off x="3490920" y="2071800"/>
            <a:ext cx="1009800" cy="11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Line 30"/>
          <p:cNvSpPr/>
          <p:nvPr/>
        </p:nvSpPr>
        <p:spPr>
          <a:xfrm>
            <a:off x="3490920" y="3213000"/>
            <a:ext cx="93672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1" name="Picture 6" descr="AG00046_"/>
          <p:cNvPicPr/>
          <p:nvPr/>
        </p:nvPicPr>
        <p:blipFill>
          <a:blip r:embed="rId1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6" descr="AG00046_"/>
          <p:cNvPicPr/>
          <p:nvPr/>
        </p:nvPicPr>
        <p:blipFill>
          <a:blip r:embed="rId2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6" descr="AG00046_"/>
          <p:cNvPicPr/>
          <p:nvPr/>
        </p:nvPicPr>
        <p:blipFill>
          <a:blip r:embed="rId3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Круглая лента лицом вверх 1"/>
          <p:cNvSpPr/>
          <p:nvPr/>
        </p:nvSpPr>
        <p:spPr>
          <a:xfrm>
            <a:off x="1785960" y="357120"/>
            <a:ext cx="4572000" cy="1643040"/>
          </a:xfrm>
          <a:custGeom>
            <a:avLst/>
            <a:gdLst>
              <a:gd name="textAreaLeft" fmla="*/ 1143000 w 4572000"/>
              <a:gd name="textAreaRight" fmla="*/ 3429000 w 4572000"/>
              <a:gd name="textAreaTop" fmla="*/ 48600 h 1643040"/>
              <a:gd name="textAreaBottom" fmla="*/ 12322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6" name="TextBox 3" descr=""/>
          <p:cNvPicPr/>
          <p:nvPr/>
        </p:nvPicPr>
        <p:blipFill>
          <a:blip r:embed="rId1"/>
          <a:stretch/>
        </p:blipFill>
        <p:spPr>
          <a:xfrm>
            <a:off x="3067200" y="512640"/>
            <a:ext cx="2114280" cy="895320"/>
          </a:xfrm>
          <a:prstGeom prst="rect">
            <a:avLst/>
          </a:prstGeom>
          <a:ln w="0">
            <a:noFill/>
          </a:ln>
        </p:spPr>
      </p:pic>
      <p:sp>
        <p:nvSpPr>
          <p:cNvPr id="777" name="Вертикальный свиток 4"/>
          <p:cNvSpPr/>
          <p:nvPr/>
        </p:nvSpPr>
        <p:spPr>
          <a:xfrm>
            <a:off x="1000080" y="2214720"/>
            <a:ext cx="6215040" cy="321444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Box 5"/>
          <p:cNvSpPr/>
          <p:nvPr/>
        </p:nvSpPr>
        <p:spPr>
          <a:xfrm>
            <a:off x="2071800" y="2714760"/>
            <a:ext cx="407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ммуналдық шаруашылық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Жол құрылыс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өпір-үй коммуникациялар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және д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Әлеуметтік-экономикалық сипаттағы мектептер салуға денсаулық сақтау объектілеріне , мәдениет және жалпы білім жүйесіне пайызсыз несиелер беред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  <p:sndAc>
      <p:stSnd>
        <p:snd r:embed="rId2" name="chimes.wav"/>
      </p:stSnd>
    </p:sndAc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3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1000080" y="1928880"/>
            <a:ext cx="77724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лықаралық валюталық қ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үниежүзілік бан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уропа қайта құру және даму банк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ия даму банк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лам даму банк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Tahom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Прямоугольник 3" descr=""/>
          <p:cNvPicPr/>
          <p:nvPr/>
        </p:nvPicPr>
        <p:blipFill>
          <a:blip r:embed="rId1"/>
          <a:stretch/>
        </p:blipFill>
        <p:spPr>
          <a:xfrm>
            <a:off x="2852640" y="426960"/>
            <a:ext cx="3651480" cy="11462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" descr="AG00046_"/>
          <p:cNvPicPr/>
          <p:nvPr/>
        </p:nvPicPr>
        <p:blipFill>
          <a:blip r:embed="rId2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AG00046_"/>
          <p:cNvPicPr/>
          <p:nvPr/>
        </p:nvPicPr>
        <p:blipFill>
          <a:blip r:embed="rId3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AG00046_"/>
          <p:cNvPicPr/>
          <p:nvPr/>
        </p:nvPicPr>
        <p:blipFill>
          <a:blip r:embed="rId5"/>
          <a:stretch/>
        </p:blipFill>
        <p:spPr>
          <a:xfrm flipH="1" rot="16200000">
            <a:off x="5671080" y="335016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Box 23"/>
          <p:cNvSpPr/>
          <p:nvPr/>
        </p:nvSpPr>
        <p:spPr>
          <a:xfrm>
            <a:off x="1785960" y="1714680"/>
            <a:ext cx="51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анктің ресми тілі – </a:t>
            </a:r>
            <a:r>
              <a:rPr b="0" i="1" lang="kk-KZ" sz="3200" spc="-1" strike="noStrike">
                <a:solidFill>
                  <a:srgbClr val="ff0000"/>
                </a:solidFill>
                <a:latin typeface="Tahoma"/>
              </a:rPr>
              <a:t>араб тілі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л қарым-қатынас үшін –</a:t>
            </a:r>
            <a:r>
              <a:rPr b="0" i="1" lang="kk-KZ" sz="3200" spc="-1" strike="noStrike">
                <a:solidFill>
                  <a:srgbClr val="ff0000"/>
                </a:solidFill>
                <a:latin typeface="Tahoma"/>
              </a:rPr>
              <a:t>ағылшын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және </a:t>
            </a:r>
            <a:r>
              <a:rPr b="0" i="1" lang="kk-KZ" sz="3200" spc="-1" strike="noStrike">
                <a:solidFill>
                  <a:srgbClr val="ff0000"/>
                </a:solidFill>
                <a:latin typeface="Tahoma"/>
              </a:rPr>
              <a:t>француз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тілдері қолданыла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0" name="Picture 6" descr="AG00046_"/>
          <p:cNvPicPr/>
          <p:nvPr/>
        </p:nvPicPr>
        <p:blipFill>
          <a:blip r:embed="rId1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" descr="AG00046_"/>
          <p:cNvPicPr/>
          <p:nvPr/>
        </p:nvPicPr>
        <p:blipFill>
          <a:blip r:embed="rId2"/>
          <a:stretch/>
        </p:blipFill>
        <p:spPr>
          <a:xfrm rot="10800000">
            <a:off x="1425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" descr="AG00046_"/>
          <p:cNvPicPr/>
          <p:nvPr/>
        </p:nvPicPr>
        <p:blipFill>
          <a:blip r:embed="rId3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6" descr="AG00046_"/>
          <p:cNvPicPr/>
          <p:nvPr/>
        </p:nvPicPr>
        <p:blipFill>
          <a:blip r:embed="rId1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AG00046_"/>
          <p:cNvPicPr/>
          <p:nvPr/>
        </p:nvPicPr>
        <p:blipFill>
          <a:blip r:embed="rId2"/>
          <a:stretch/>
        </p:blipFill>
        <p:spPr>
          <a:xfrm rot="10800000">
            <a:off x="1425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AG00046_"/>
          <p:cNvPicPr/>
          <p:nvPr/>
        </p:nvPicPr>
        <p:blipFill>
          <a:blip r:embed="rId3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5671080" y="3350160"/>
            <a:ext cx="6823080" cy="1224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5"/>
          <p:cNvSpPr/>
          <p:nvPr/>
        </p:nvSpPr>
        <p:spPr>
          <a:xfrm>
            <a:off x="1428840" y="1428840"/>
            <a:ext cx="6143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Мақсат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600" spc="-1" strike="noStrike">
                <a:solidFill>
                  <a:srgbClr val="a0207e"/>
                </a:solidFill>
                <a:latin typeface="Times New Roman"/>
                <a:ea typeface="Times New Roman"/>
              </a:rPr>
              <a:t>Халықаралық валюта ұйымының басқару құрылымын, мақсаттарын, қызметтерін, функцияларын бі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Прямоугольник 10"/>
          <p:cNvSpPr/>
          <p:nvPr/>
        </p:nvSpPr>
        <p:spPr>
          <a:xfrm>
            <a:off x="785880" y="1143000"/>
            <a:ext cx="7286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Халықаралық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алюталық қор</a:t>
            </a:r>
            <a:r>
              <a:rPr b="1" lang="kk-KZ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44 жылы Бреттон –Вудс конференциясында құрыл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ғашында 35 мемлекет мүше бол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3 жылы 174-ке жет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0" name="Picture 6" descr="AG00046_"/>
          <p:cNvPicPr/>
          <p:nvPr/>
        </p:nvPicPr>
        <p:blipFill>
          <a:blip r:embed="rId1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AG00046_"/>
          <p:cNvPicPr/>
          <p:nvPr/>
        </p:nvPicPr>
        <p:blipFill>
          <a:blip r:embed="rId2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" descr="AG00046_"/>
          <p:cNvPicPr/>
          <p:nvPr/>
        </p:nvPicPr>
        <p:blipFill>
          <a:blip r:embed="rId3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42960" y="1928880"/>
            <a:ext cx="77724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лықаралық валюталық ұсыныстарды әзірлеу;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ны қайта құру жөнінде өте кедей елдерге кеңес беру, шаралар әзірле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ңа мүшелерді қабылдау, квоталарды өзгерту, ХВҚ-ға мүше елдерді тексер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5" name="Прямоугольник 3" descr=""/>
          <p:cNvPicPr/>
          <p:nvPr/>
        </p:nvPicPr>
        <p:blipFill>
          <a:blip r:embed="rId1"/>
          <a:stretch/>
        </p:blipFill>
        <p:spPr>
          <a:xfrm>
            <a:off x="1279440" y="493560"/>
            <a:ext cx="5870520" cy="14814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AG00046_"/>
          <p:cNvPicPr/>
          <p:nvPr/>
        </p:nvPicPr>
        <p:blipFill>
          <a:blip r:embed="rId2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AG00046_"/>
          <p:cNvPicPr/>
          <p:nvPr/>
        </p:nvPicPr>
        <p:blipFill>
          <a:blip r:embed="rId3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AG00046_"/>
          <p:cNvPicPr/>
          <p:nvPr/>
        </p:nvPicPr>
        <p:blipFill>
          <a:blip r:embed="rId5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6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4"/>
          <p:cNvSpPr/>
          <p:nvPr/>
        </p:nvSpPr>
        <p:spPr>
          <a:xfrm>
            <a:off x="611280" y="404640"/>
            <a:ext cx="761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Wide Latin"/>
              </a:rPr>
              <a:t>Қор капиталына мүше елдердің жарнасы екі бөлікке бөлінеді: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611280" y="1557360"/>
            <a:ext cx="7618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357120" y="1643040"/>
            <a:ext cx="7143840" cy="1557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6600cc"/>
              </a:buClr>
              <a:buFont typeface="Stenci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cc"/>
                </a:solidFill>
                <a:latin typeface="Stencil"/>
              </a:rPr>
              <a:t>Сол елдердің квотасының 25</a:t>
            </a:r>
            <a:r>
              <a:rPr b="1" lang="en-US" sz="2400" spc="-1" strike="noStrike">
                <a:solidFill>
                  <a:srgbClr val="6600cc"/>
                </a:solidFill>
                <a:latin typeface="Stencil"/>
              </a:rPr>
              <a:t>%</a:t>
            </a:r>
            <a:r>
              <a:rPr b="1" lang="kk-KZ" sz="2400" spc="-1" strike="noStrike">
                <a:solidFill>
                  <a:srgbClr val="6600cc"/>
                </a:solidFill>
                <a:latin typeface="Stencil"/>
              </a:rPr>
              <a:t> сомасы көлемінде немесе оның алтын мен доллар запастарының 10</a:t>
            </a:r>
            <a:r>
              <a:rPr b="1" lang="en-US" sz="2400" spc="-1" strike="noStrike">
                <a:solidFill>
                  <a:srgbClr val="6600cc"/>
                </a:solidFill>
                <a:latin typeface="Stencil"/>
              </a:rPr>
              <a:t>%</a:t>
            </a:r>
            <a:r>
              <a:rPr b="1" lang="kk-KZ" sz="2400" spc="-1" strike="noStrike">
                <a:solidFill>
                  <a:srgbClr val="6600cc"/>
                </a:solidFill>
                <a:latin typeface="Stencil"/>
              </a:rPr>
              <a:t> сомасы көлеміндегі алдын түрінд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500040" y="4071960"/>
            <a:ext cx="7104240" cy="1008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cc"/>
                </a:solidFill>
                <a:latin typeface="Stencil"/>
              </a:rPr>
              <a:t>2.  Квотаның қалған көлемі ұлттық валюта түріндегі жарнадан тұрады;</a:t>
            </a:r>
            <a:r>
              <a:rPr b="1" lang="kk-KZ" sz="3600" spc="-1" strike="noStrike">
                <a:solidFill>
                  <a:srgbClr val="6600cc"/>
                </a:solidFill>
                <a:latin typeface="Stenci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4" name="Picture 6" descr="AG00046_"/>
          <p:cNvPicPr/>
          <p:nvPr/>
        </p:nvPicPr>
        <p:blipFill>
          <a:blip r:embed="rId1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" descr="AG00046_"/>
          <p:cNvPicPr/>
          <p:nvPr/>
        </p:nvPicPr>
        <p:blipFill>
          <a:blip r:embed="rId2"/>
          <a:stretch/>
        </p:blipFill>
        <p:spPr>
          <a:xfrm flipH="1" rot="16200000">
            <a:off x="5653800" y="3367800"/>
            <a:ext cx="6858000" cy="1224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AG00046_"/>
          <p:cNvPicPr/>
          <p:nvPr/>
        </p:nvPicPr>
        <p:blipFill>
          <a:blip r:embed="rId3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" descr="AG00046_"/>
          <p:cNvPicPr/>
          <p:nvPr/>
        </p:nvPicPr>
        <p:blipFill>
          <a:blip r:embed="rId4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eeece1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eeece1"/>
              </a:solidFill>
              <a:latin typeface="Tahoma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714680" y="714240"/>
            <a:ext cx="6240240" cy="2286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Stencil"/>
              </a:rPr>
              <a:t>ХВҚ-дағы саясатты анықтауға керекті дауыс санының көп бөлігін көп ақша қосқан елдер  ала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571680" y="4357800"/>
            <a:ext cx="1585800" cy="1657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66"/>
                </a:solidFill>
                <a:latin typeface="Tahoma"/>
              </a:rPr>
              <a:t>Бірінші оры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66"/>
                </a:solidFill>
                <a:latin typeface="Tahoma"/>
              </a:rPr>
              <a:t>АҚШ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kk-KZ" sz="1800" spc="-1" strike="noStrike">
                <a:solidFill>
                  <a:srgbClr val="000066"/>
                </a:solidFill>
                <a:latin typeface="Tahoma"/>
              </a:rPr>
              <a:t>17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66"/>
                </a:solidFill>
                <a:latin typeface="Tahoma"/>
              </a:rPr>
              <a:t>Құрай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2857680" y="4429080"/>
            <a:ext cx="1512720" cy="158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66"/>
                </a:solidFill>
                <a:latin typeface="Tahoma"/>
              </a:rPr>
              <a:t>Екінші ор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66"/>
                </a:solidFill>
                <a:latin typeface="Tahoma"/>
              </a:rPr>
              <a:t>Жапония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kk-KZ" sz="16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5003640" y="4365720"/>
            <a:ext cx="1513080" cy="158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66"/>
                </a:solidFill>
                <a:latin typeface="Tahoma"/>
              </a:rPr>
              <a:t>Үшінші ор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66"/>
                </a:solidFill>
                <a:latin typeface="Tahoma"/>
              </a:rPr>
              <a:t>Германия мен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66"/>
                </a:solidFill>
                <a:latin typeface="Tahoma"/>
              </a:rPr>
              <a:t>Франция-6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7000920" y="4357800"/>
            <a:ext cx="1714320" cy="1714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66"/>
                </a:solidFill>
                <a:latin typeface="Tahoma"/>
              </a:rPr>
              <a:t>Төртінші ор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66"/>
                </a:solidFill>
                <a:latin typeface="Tahoma"/>
              </a:rPr>
              <a:t>Ұлыбритания-5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4" name="Picture 6" descr="AG00046_"/>
          <p:cNvPicPr/>
          <p:nvPr/>
        </p:nvPicPr>
        <p:blipFill>
          <a:blip r:embed="rId1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AG00046_"/>
          <p:cNvPicPr/>
          <p:nvPr/>
        </p:nvPicPr>
        <p:blipFill>
          <a:blip r:embed="rId2"/>
          <a:stretch/>
        </p:blipFill>
        <p:spPr>
          <a:xfrm rot="10800000">
            <a:off x="1425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" descr="AG00046_"/>
          <p:cNvPicPr/>
          <p:nvPr/>
        </p:nvPicPr>
        <p:blipFill>
          <a:blip r:embed="rId3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5671080" y="335016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5"/>
          <p:cNvSpPr/>
          <p:nvPr/>
        </p:nvSpPr>
        <p:spPr>
          <a:xfrm>
            <a:off x="1258920" y="189000"/>
            <a:ext cx="338436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9" name="Прямоугольник 19" descr=""/>
          <p:cNvPicPr/>
          <p:nvPr/>
        </p:nvPicPr>
        <p:blipFill>
          <a:blip r:embed="rId1"/>
          <a:stretch/>
        </p:blipFill>
        <p:spPr>
          <a:xfrm>
            <a:off x="1231920" y="1268280"/>
            <a:ext cx="6407280" cy="45230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" descr="AG00046_"/>
          <p:cNvPicPr/>
          <p:nvPr/>
        </p:nvPicPr>
        <p:blipFill>
          <a:blip r:embed="rId2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" descr="AG00046_"/>
          <p:cNvPicPr/>
          <p:nvPr/>
        </p:nvPicPr>
        <p:blipFill>
          <a:blip r:embed="rId3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" descr="AG00046_"/>
          <p:cNvPicPr/>
          <p:nvPr/>
        </p:nvPicPr>
        <p:blipFill>
          <a:blip r:embed="rId4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" descr="AG00046_"/>
          <p:cNvPicPr/>
          <p:nvPr/>
        </p:nvPicPr>
        <p:blipFill>
          <a:blip r:embed="rId5"/>
          <a:stretch/>
        </p:blipFill>
        <p:spPr>
          <a:xfrm flipH="1" rot="16200000">
            <a:off x="5671080" y="3385080"/>
            <a:ext cx="6823080" cy="122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6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Oval 15"/>
          <p:cNvSpPr/>
          <p:nvPr/>
        </p:nvSpPr>
        <p:spPr>
          <a:xfrm>
            <a:off x="1000080" y="928800"/>
            <a:ext cx="2286000" cy="1655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ahoma"/>
              </a:rPr>
              <a:t>Штаб пәте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ahoma"/>
              </a:rPr>
              <a:t>Вашинг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611280" y="1557360"/>
            <a:ext cx="7618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6" name="Picture 6" descr="AG00046_"/>
          <p:cNvPicPr/>
          <p:nvPr/>
        </p:nvPicPr>
        <p:blipFill>
          <a:blip r:embed="rId1"/>
          <a:stretch/>
        </p:blipFill>
        <p:spPr>
          <a:xfrm flipH="1" rot="16200000">
            <a:off x="-3350160" y="3350160"/>
            <a:ext cx="6823080" cy="1224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" descr="AG00046_"/>
          <p:cNvPicPr/>
          <p:nvPr/>
        </p:nvPicPr>
        <p:blipFill>
          <a:blip r:embed="rId2"/>
          <a:stretch/>
        </p:blipFill>
        <p:spPr>
          <a:xfrm flipH="1" rot="16200000">
            <a:off x="5671080" y="3350160"/>
            <a:ext cx="6823080" cy="12240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18"/>
          <p:cNvSpPr/>
          <p:nvPr/>
        </p:nvSpPr>
        <p:spPr>
          <a:xfrm rot="13397400">
            <a:off x="2555640" y="2712960"/>
            <a:ext cx="814320" cy="486000"/>
          </a:xfrm>
          <a:custGeom>
            <a:avLst/>
            <a:gdLst>
              <a:gd name="textAreaLeft" fmla="*/ 127080 w 814320"/>
              <a:gd name="textAreaRight" fmla="*/ 708120 w 814320"/>
              <a:gd name="textAreaTop" fmla="*/ 111240 h 486000"/>
              <a:gd name="textAreaBottom" fmla="*/ 374760 h 486000"/>
            </a:gdLst>
            <a:ahLst/>
            <a:rect l="textAreaLeft" t="textAreaTop" r="textAreaRight" b="textAreaBottom"/>
            <a:pathLst>
              <a:path w="21600" h="21600">
                <a:moveTo>
                  <a:pt x="16402" y="0"/>
                </a:moveTo>
                <a:lnTo>
                  <a:pt x="16402" y="4941"/>
                </a:lnTo>
                <a:lnTo>
                  <a:pt x="3375" y="4941"/>
                </a:lnTo>
                <a:lnTo>
                  <a:pt x="3375" y="16659"/>
                </a:lnTo>
                <a:lnTo>
                  <a:pt x="16402" y="16659"/>
                </a:lnTo>
                <a:lnTo>
                  <a:pt x="16402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4941"/>
                </a:moveTo>
                <a:lnTo>
                  <a:pt x="1350" y="16659"/>
                </a:lnTo>
                <a:lnTo>
                  <a:pt x="2700" y="16659"/>
                </a:lnTo>
                <a:lnTo>
                  <a:pt x="2700" y="4941"/>
                </a:lnTo>
                <a:close/>
              </a:path>
              <a:path w="21600" h="21600">
                <a:moveTo>
                  <a:pt x="0" y="4941"/>
                </a:moveTo>
                <a:lnTo>
                  <a:pt x="0" y="16659"/>
                </a:lnTo>
                <a:lnTo>
                  <a:pt x="675" y="16659"/>
                </a:lnTo>
                <a:lnTo>
                  <a:pt x="675" y="4941"/>
                </a:lnTo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AutoShape 19"/>
          <p:cNvSpPr/>
          <p:nvPr/>
        </p:nvSpPr>
        <p:spPr>
          <a:xfrm rot="18892200">
            <a:off x="5336640" y="2649600"/>
            <a:ext cx="826920" cy="486000"/>
          </a:xfrm>
          <a:custGeom>
            <a:avLst/>
            <a:gdLst>
              <a:gd name="textAreaLeft" fmla="*/ 129240 w 826920"/>
              <a:gd name="textAreaRight" fmla="*/ 723600 w 8269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Rectangle 20"/>
          <p:cNvSpPr/>
          <p:nvPr/>
        </p:nvSpPr>
        <p:spPr>
          <a:xfrm>
            <a:off x="1000080" y="4643280"/>
            <a:ext cx="7386840" cy="1357560"/>
          </a:xfrm>
          <a:prstGeom prst="rect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үниежүзілік банк 1946 жылыдан қызметін баста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60 жылдан дамушы елдерге несие бере баста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1" name="Прямоугольник 19" descr=""/>
          <p:cNvPicPr/>
          <p:nvPr/>
        </p:nvPicPr>
        <p:blipFill>
          <a:blip r:embed="rId3"/>
          <a:stretch/>
        </p:blipFill>
        <p:spPr>
          <a:xfrm>
            <a:off x="3219480" y="3139920"/>
            <a:ext cx="2455920" cy="993960"/>
          </a:xfrm>
          <a:prstGeom prst="rect">
            <a:avLst/>
          </a:prstGeom>
          <a:ln w="0">
            <a:noFill/>
          </a:ln>
        </p:spPr>
      </p:pic>
      <p:sp>
        <p:nvSpPr>
          <p:cNvPr id="692" name="Oval 15"/>
          <p:cNvSpPr/>
          <p:nvPr/>
        </p:nvSpPr>
        <p:spPr>
          <a:xfrm>
            <a:off x="5643720" y="928800"/>
            <a:ext cx="2286000" cy="1655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ahoma"/>
              </a:rPr>
              <a:t>180 мемлек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ahoma"/>
              </a:rPr>
              <a:t>мүш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3" name="Picture 6" descr="AG00046_"/>
          <p:cNvPicPr/>
          <p:nvPr/>
        </p:nvPicPr>
        <p:blipFill>
          <a:blip r:embed="rId4"/>
          <a:stretch/>
        </p:blipFill>
        <p:spPr>
          <a:xfrm rot="10800000">
            <a:off x="-360" y="0"/>
            <a:ext cx="9001080" cy="162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AG00046_"/>
          <p:cNvPicPr/>
          <p:nvPr/>
        </p:nvPicPr>
        <p:blipFill>
          <a:blip r:embed="rId5"/>
          <a:stretch/>
        </p:blipFill>
        <p:spPr>
          <a:xfrm rot="10800000">
            <a:off x="-360" y="6696000"/>
            <a:ext cx="9001080" cy="16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  <p:sndAc>
      <p:stSnd>
        <p:snd r:embed="rId6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6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4:06:17Z</dcterms:created>
  <dc:creator>Администратор</dc:creator>
  <dc:description/>
  <dc:language>en-US</dc:language>
  <cp:lastModifiedBy>Admin</cp:lastModifiedBy>
  <dcterms:modified xsi:type="dcterms:W3CDTF">2012-01-13T05:47:43Z</dcterms:modified>
  <cp:revision>126</cp:revision>
  <dc:subject/>
  <dc:title>Слайд 1</dc:title>
</cp:coreProperties>
</file>